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7274-7407-4C78-8DBA-7B83CFBC2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– The key to a community of learners. The key to Making It Happen.   Real talk equals real results.  Good for students, good for adults.   Classroom and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connection between teacher effectiveness and student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C and 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connection between teacher effectiveness and student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C and 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d Aloud, Think Aloud, Vivid Piece of Text, Nonfiction Text: Making Comparisons, Showing Not Telling in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verbs, Mental Images using 5 senses, Mental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ing 5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C6C-7BE4-466D-89BE-DD2398D3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5152-8A11-4934-A584-FE600998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35B-D754-4284-AAB5-6B2D0662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CEAD-C446-4C01-A394-A809D229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2D9-D875-4534-BD4A-2AF2285A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EA0-C43E-4C2C-88BC-E7D1DB29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BD1-DE63-47F3-9979-279ED1F0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2A18-54C7-43D6-9E97-E5586DBB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64F8-CF76-4EC8-BF7C-156EF259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2CAD-755A-456F-AE4E-4D9BF0D2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B59A-18FB-4C44-B9BA-388803CA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B405-94D3-46FE-BB01-26CB2FDB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3801-4261-48F4-B044-D37201C86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33720" y="457200"/>
            <a:ext cx="4419360" cy="434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Jester"/>
              </a:rPr>
              <a:t>North Rockland High School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Jester"/>
              <a:ea typeface="Jester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19520" y="1143000"/>
          <a:ext cx="30258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143000"/>
                    <a:ext cx="3025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6479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Make It Happen 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Power of Communication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2007-2008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43434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48765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empus Sans ITC"/>
              </a:rPr>
              <a:t>Instructional Strategy- Inferring with Poet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486400" cy="4952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ear the Mas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Paul Laurence Dun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ar the mask that grins and li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ides our cheeks and shades our ey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debt we pay to human guile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orn and bleeding hearts we smil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outh with myriad subtletie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should the world be overwis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unting all our tears and sighs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y, let them only see us, wh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ar the mask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mile, but, O great Christ, our cr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e from tortured souls aris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ing, but oh the clay is v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ath our feet, and long the mile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let the world dream otherwis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ar the mask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4572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Line or Quote from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4572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My I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304920"/>
            <a:ext cx="0" cy="624816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1981080"/>
            <a:ext cx="25146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Faculty Meeting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November 15,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tent Literacy/Visualizing/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How do we get students to think about/through text? How can our use of visualizing and inferring as literacy strategies improve student achievem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ey Ter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ing – Constructing – Utilizing (I-C-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Faculty Meeting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November 15,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tent Literacy/Visualizing/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How do we get students to think about/through text? How can our use of visualizing and inferring as literacy strategies improve student achievemen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ey Ter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ing – Constructing – Utilizing (I-C-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Attention to Process:</a:t>
            </a:r>
            <a:br>
              <a:rPr sz="4000"/>
            </a:b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Comic Sans MS"/>
              </a:rPr>
              <a:t>Initiating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Comic Sans MS"/>
              </a:rPr>
              <a:t>Constructing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6699"/>
                </a:solidFill>
                <a:latin typeface="Comic Sans MS"/>
              </a:rPr>
              <a:t>Utilizing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t a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view and Pred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tivate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ild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dentify tex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riting without Compo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de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sts, Brainstorming, Graphically organizing, vocabulary re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24480" y="1980720"/>
            <a:ext cx="2819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f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mar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riting to Demonstrat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says, reports, research papers, formal letters, expository/narrative/creative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828800"/>
            <a:ext cx="8076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1219320"/>
            <a:ext cx="1440" cy="5333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1143000"/>
            <a:ext cx="1440" cy="5334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1981080"/>
            <a:ext cx="2895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d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 with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ke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d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r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riting to 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oic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d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tence Fl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ick writes, journals, rough drafts, content notes, post-it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28600"/>
            <a:ext cx="3429000" cy="2133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empus Sans ITC"/>
              </a:rPr>
              <a:t>Visualizing –</a:t>
            </a:r>
            <a:r>
              <a:rPr b="0" lang="en-US" sz="3200" spc="-1" strike="noStrike">
                <a:solidFill>
                  <a:srgbClr val="ff3300"/>
                </a:solidFill>
                <a:latin typeface="Tempus Sans ITC"/>
              </a:rPr>
              <a:t>the reader paints a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304920"/>
            <a:ext cx="44193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 text wi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shelf Symbol 3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etic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shelf Symbol 3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phoric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shelf Symbol 3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nning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 create a mental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666880"/>
            <a:ext cx="36576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hing Gold Can Stay by Robert Fr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's first green is gold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 hardest hue to hol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 early leaf's a flower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so an hou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leaf subsides to leaf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Eden sank to grief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dawn goes down to da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hing gold can st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876920" y="2819520"/>
            <a:ext cx="368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181480" y="3886200"/>
            <a:ext cx="3733920" cy="29631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Instructional Strategy -Visualizing</a:t>
            </a: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with Wordless Picture 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ers use the pictures to make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missing pictures in their mi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3886200"/>
            <a:ext cx="3733560" cy="29631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2290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Comic Sans MS"/>
              </a:rPr>
              <a:t>Instructional Strategy- Visualizing through Read Aloud with a Vivid Piece of Text</a:t>
            </a:r>
            <a:r>
              <a:rPr b="0" lang="en-US" sz="2800" spc="-1" strike="noStrike">
                <a:solidFill>
                  <a:srgbClr val="339966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9200" y="1523880"/>
            <a:ext cx="8067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hing Gold Can Stay by Robert Fr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's first green is gold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 hardest hue to hol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 early leaf's a flower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only so an hou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leaf subsides to leaf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Eden sank to grief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dawn goes down to da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 gold can st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Instructional Strategy-Visualizing to Create Mental Images</a:t>
            </a: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60040" y="2606400"/>
            <a:ext cx="3630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sing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394308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09880" cy="26672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Inferential Thinking-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ad Between the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360600"/>
            <a:ext cx="41148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-ended or unresolv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pre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724280" y="685800"/>
            <a:ext cx="3969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86480" y="838080"/>
            <a:ext cx="445752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empus Sans ITC"/>
              </a:rPr>
              <a:t>Instructional Strategy- Inferring from Illustrations an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1447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66"/>
                </a:solidFill>
                <a:latin typeface="Arial"/>
              </a:rPr>
              <a:t>F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14240" y="1828440"/>
            <a:ext cx="1981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1676520"/>
            <a:ext cx="0" cy="49528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819520"/>
            <a:ext cx="43434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7:06:57Z</dcterms:created>
  <dc:creator>North Rockland High School</dc:creator>
  <dc:description/>
  <dc:language>en-US</dc:language>
  <cp:lastModifiedBy>North Rockland High School</cp:lastModifiedBy>
  <dcterms:modified xsi:type="dcterms:W3CDTF">2008-08-20T19:09:44Z</dcterms:modified>
  <cp:revision>7</cp:revision>
  <dc:subject/>
  <dc:title>Make It Happen  Power of Communication 2007-2008 </dc:title>
</cp:coreProperties>
</file>